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826DA-C5D1-4B3B-8D29-8909372A5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9CEEB-3804-47A9-8361-6E14DF426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ACCBE-C77B-4313-9A04-C9B68003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82C5-B6F5-4D58-8BFF-1489CCB66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73B5D-DBF7-47A8-A315-26ABB4C4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D39E-6B2A-45ED-A83F-7F3146C4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D351-4972-4590-86C1-B6F4B2194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2506-7861-4B38-B924-E7A76BAB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6FA5-372E-4E42-B1E0-B23E7D3C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A6361-0562-4424-9915-8A92EEA5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D5C3-842C-4C59-9DA1-E1535361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95B1B-2411-4A28-A3DF-F38C59D60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50B2E-AEE1-4CCA-83EA-7B8590C290C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B4F0B-FF40-4AF9-92C3-B1155E3528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33240" y="2097000"/>
            <a:ext cx="7877520" cy="157968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Question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ight be the positive intellectual benefits of ga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ight playing video games be good for your mind or your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many people think that gaming is harm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5099040" cy="604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is book is an old-fashioned work of persuasion that ultimately aims to convince you of one thing: that popular culture has, on average, grown more complex and intellectually challenging over the past thirty years.”</a:t>
            </a:r>
            <a:endParaRPr b="0" lang="en-US" sz="4000" spc="-1" strike="noStrike">
              <a:solidFill>
                <a:srgbClr val="000000"/>
              </a:solidFill>
              <a:latin typeface="Calibri"/>
            </a:endParaRPr>
          </a:p>
        </p:txBody>
      </p:sp>
      <p:pic>
        <p:nvPicPr>
          <p:cNvPr id="46" name="Picture 3" descr=""/>
          <p:cNvPicPr/>
          <p:nvPr/>
        </p:nvPicPr>
        <p:blipFill>
          <a:blip r:embed="rId2"/>
          <a:stretch/>
        </p:blipFill>
        <p:spPr>
          <a:xfrm>
            <a:off x="5487840" y="415800"/>
            <a:ext cx="3506760" cy="554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4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fter reading the excerpts from Johnson’s book that highlight some of his main ideas, spend about </a:t>
            </a:r>
            <a:r>
              <a:rPr b="1" lang="en-US" sz="3600" spc="-1" strike="noStrike">
                <a:solidFill>
                  <a:srgbClr val="000000"/>
                </a:solidFill>
                <a:latin typeface="Calibri"/>
              </a:rPr>
              <a:t>ten minutes </a:t>
            </a:r>
            <a:r>
              <a:rPr b="0" lang="en-US" sz="3600" spc="-1" strike="noStrike">
                <a:solidFill>
                  <a:srgbClr val="000000"/>
                </a:solidFill>
                <a:latin typeface="Calibri"/>
              </a:rPr>
              <a:t>writing on the following question:</a:t>
            </a:r>
            <a:br>
              <a:rPr sz="3600"/>
            </a:br>
            <a:br>
              <a:rPr sz="3600"/>
            </a:br>
            <a:r>
              <a:rPr b="1" lang="en-US" sz="3600" spc="-1" strike="noStrike">
                <a:solidFill>
                  <a:srgbClr val="000000"/>
                </a:solidFill>
                <a:latin typeface="Calibri"/>
              </a:rPr>
              <a:t>Does he have a point or are you skeptical about his arguments?  Has hearing what he has to say changed your original thoughts at all?  How?  Support your response with specific evidence from his 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28:34Z</dcterms:created>
  <dc:creator>Jennifer</dc:creator>
  <dc:description/>
  <dc:language>en-US</dc:language>
  <cp:lastModifiedBy>Jennifer</cp:lastModifiedBy>
  <dcterms:modified xsi:type="dcterms:W3CDTF">2010-09-02T15:05:33Z</dcterms:modified>
  <cp:revision>5</cp:revision>
  <dc:subject/>
  <dc:title>Everything Bad is Good for You (Maybe).</dc:title>
</cp:coreProperties>
</file>